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F28-5520-40F4-A757-36D06977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DE5-4820-4CC9-842F-5F1A7218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054-2291-43DB-BFF4-A2150967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DF1-D728-4D56-8D8E-222A1688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288-0624-46FB-8BCF-6B03EC4C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306-F779-4618-BF5D-79AAFC99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711-C792-47A7-95A6-F1DE0953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2FC-349C-48A2-8CFF-83BBAB4F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12A-DF71-4C0F-8F79-7E20E924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4F5-5CDD-4B0B-AEBF-AB07C61E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693-FCBC-4B2B-875B-AF6F9E4B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367-F5C9-4BF0-AB48-F5161D47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7153E-E089-4A94-BF92-00D5331DC8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AEA00-50A7-4F93-BEF2-4AAF5DFAC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hil Engl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387600" y="126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很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51460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98" name="Picture 3" descr=""/>
            <p:cNvPicPr/>
            <p:nvPr/>
          </p:nvPicPr>
          <p:blipFill>
            <a:blip r:embed="rId1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"/>
            <p:cNvPicPr/>
            <p:nvPr/>
          </p:nvPicPr>
          <p:blipFill>
            <a:blip r:embed="rId2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" descr=""/>
            <p:cNvPicPr/>
            <p:nvPr/>
          </p:nvPicPr>
          <p:blipFill>
            <a:blip r:embed="rId3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Oval Callout 6"/>
          <p:cNvSpPr/>
          <p:nvPr/>
        </p:nvSpPr>
        <p:spPr>
          <a:xfrm>
            <a:off x="5181480" y="914400"/>
            <a:ext cx="4267440" cy="3809880"/>
          </a:xfrm>
          <a:prstGeom prst="wedgeEllipseCallout">
            <a:avLst>
              <a:gd name="adj1" fmla="val -89245"/>
              <a:gd name="adj2" fmla="val 16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7620120" y="2674800"/>
            <a:ext cx="1371600" cy="119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5"/>
          <a:stretch/>
        </p:blipFill>
        <p:spPr>
          <a:xfrm>
            <a:off x="5867280" y="1547640"/>
            <a:ext cx="1752840" cy="2319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640800" y="3636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持它大狗说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Fireb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你是太小狗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394160" y="4952880"/>
            <a:ext cx="32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ther big dogs said, “Fireball you are too small do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19320" y="923760"/>
            <a:ext cx="6984720" cy="50803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1974960" y="-176040"/>
            <a:ext cx="5340240" cy="1103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828800" y="6324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was s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2600" y="838080"/>
            <a:ext cx="5079960" cy="3936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676320" y="0"/>
            <a:ext cx="222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天一直小人猴子攻击穿集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552760" y="3200400"/>
            <a:ext cx="4444920" cy="3352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5562720" y="1295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ay an evil monkey attacked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079960" cy="393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2462040" cy="160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6881760" y="3306600"/>
            <a:ext cx="1575000" cy="157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tretch/>
        </p:blipFill>
        <p:spPr>
          <a:xfrm>
            <a:off x="5943600" y="2021040"/>
            <a:ext cx="1504800" cy="1285560"/>
          </a:xfrm>
          <a:prstGeom prst="rect">
            <a:avLst/>
          </a:prstGeom>
          <a:ln w="0">
            <a:noFill/>
          </a:ln>
        </p:spPr>
      </p:pic>
      <p:sp>
        <p:nvSpPr>
          <p:cNvPr id="120" name="Frame 7"/>
          <p:cNvSpPr/>
          <p:nvPr/>
        </p:nvSpPr>
        <p:spPr>
          <a:xfrm>
            <a:off x="4419720" y="1676520"/>
            <a:ext cx="4343400" cy="38098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9"/>
          <p:cNvSpPr/>
          <p:nvPr/>
        </p:nvSpPr>
        <p:spPr>
          <a:xfrm flipH="1">
            <a:off x="5562720" y="2021040"/>
            <a:ext cx="14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1"/>
          <p:cNvSpPr/>
          <p:nvPr/>
        </p:nvSpPr>
        <p:spPr>
          <a:xfrm>
            <a:off x="6095880" y="2021040"/>
            <a:ext cx="7632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13"/>
          <p:cNvSpPr/>
          <p:nvPr/>
        </p:nvSpPr>
        <p:spPr>
          <a:xfrm>
            <a:off x="6553080" y="2021040"/>
            <a:ext cx="152640" cy="33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5"/>
          <p:cNvSpPr/>
          <p:nvPr/>
        </p:nvSpPr>
        <p:spPr>
          <a:xfrm>
            <a:off x="7447680" y="2021040"/>
            <a:ext cx="17172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7"/>
          <p:cNvSpPr/>
          <p:nvPr/>
        </p:nvSpPr>
        <p:spPr>
          <a:xfrm>
            <a:off x="7924680" y="2021040"/>
            <a:ext cx="152640" cy="331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9"/>
          <p:cNvSpPr/>
          <p:nvPr/>
        </p:nvSpPr>
        <p:spPr>
          <a:xfrm>
            <a:off x="6881040" y="2021040"/>
            <a:ext cx="204840" cy="3160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3784320" y="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一直小人猴子逮持它大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838080" y="54864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il monkey captured the big do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540480" cy="5638680"/>
          </a:xfrm>
          <a:prstGeom prst="rect">
            <a:avLst/>
          </a:prstGeom>
          <a:ln w="0">
            <a:noFill/>
          </a:ln>
        </p:spPr>
      </p:pic>
      <p:sp>
        <p:nvSpPr>
          <p:cNvPr id="131" name="Oval Callout 5"/>
          <p:cNvSpPr/>
          <p:nvPr/>
        </p:nvSpPr>
        <p:spPr>
          <a:xfrm>
            <a:off x="7543800" y="838080"/>
            <a:ext cx="1828800" cy="762120"/>
          </a:xfrm>
          <a:prstGeom prst="wedgeEllipseCallout">
            <a:avLst>
              <a:gd name="adj1" fmla="val -105587"/>
              <a:gd name="adj2" fmla="val -706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772400" y="103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06880" y="-85680"/>
            <a:ext cx="86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听到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Help, Hel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7543800" y="2362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heard, “Help Hel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39080" cy="471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2880720" y="142920"/>
            <a:ext cx="34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90920" y="578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350040" cy="4762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3616200" y="-8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也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752480" y="5867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j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5"/>
          <p:cNvGrpSpPr/>
          <p:nvPr/>
        </p:nvGrpSpPr>
        <p:grpSpPr>
          <a:xfrm>
            <a:off x="380880" y="1725480"/>
            <a:ext cx="8134560" cy="4292640"/>
            <a:chOff x="380880" y="1725480"/>
            <a:chExt cx="8134560" cy="4292640"/>
          </a:xfrm>
        </p:grpSpPr>
        <p:pic>
          <p:nvPicPr>
            <p:cNvPr id="145" name="Picture 3" descr=""/>
            <p:cNvPicPr/>
            <p:nvPr/>
          </p:nvPicPr>
          <p:blipFill>
            <a:blip r:embed="rId1"/>
            <a:stretch/>
          </p:blipFill>
          <p:spPr>
            <a:xfrm>
              <a:off x="2800080" y="1725480"/>
              <a:ext cx="571536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380880" y="2285640"/>
              <a:ext cx="3429000" cy="16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Rectangle 3" descr=""/>
          <p:cNvPicPr/>
          <p:nvPr/>
        </p:nvPicPr>
        <p:blipFill>
          <a:blip r:embed="rId3"/>
          <a:stretch/>
        </p:blipFill>
        <p:spPr>
          <a:xfrm>
            <a:off x="2475000" y="139680"/>
            <a:ext cx="428616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380880" y="5486400"/>
            <a:ext cx="24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turned into a Ball of  f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"/>
          <p:cNvGrpSpPr/>
          <p:nvPr/>
        </p:nvGrpSpPr>
        <p:grpSpPr>
          <a:xfrm>
            <a:off x="838080" y="1676520"/>
            <a:ext cx="6381720" cy="3276360"/>
            <a:chOff x="838080" y="1676520"/>
            <a:chExt cx="6381720" cy="3276360"/>
          </a:xfrm>
        </p:grpSpPr>
        <p:pic>
          <p:nvPicPr>
            <p:cNvPr id="151" name="Picture 3" descr=""/>
            <p:cNvPicPr/>
            <p:nvPr/>
          </p:nvPicPr>
          <p:blipFill>
            <a:blip r:embed="rId1"/>
            <a:stretch/>
          </p:blipFill>
          <p:spPr>
            <a:xfrm>
              <a:off x="2736000" y="1676520"/>
              <a:ext cx="4483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"/>
            <p:cNvPicPr/>
            <p:nvPr/>
          </p:nvPicPr>
          <p:blipFill>
            <a:blip r:embed="rId2"/>
            <a:srcRect l="0" t="0" r="8119" b="0"/>
            <a:stretch/>
          </p:blipFill>
          <p:spPr>
            <a:xfrm>
              <a:off x="838080" y="2104200"/>
              <a:ext cx="2690280" cy="12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5038560" y="2590920"/>
            <a:ext cx="4362480" cy="338112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7" descr=""/>
          <p:cNvPicPr/>
          <p:nvPr/>
        </p:nvPicPr>
        <p:blipFill>
          <a:blip r:embed="rId4"/>
          <a:stretch/>
        </p:blipFill>
        <p:spPr>
          <a:xfrm>
            <a:off x="1749600" y="291960"/>
            <a:ext cx="5657760" cy="10922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jumped on top of the mon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762800" cy="4140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2427120" y="45720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有一个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62940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4364280" cy="3381480"/>
          </a:xfrm>
          <a:prstGeom prst="rect">
            <a:avLst/>
          </a:prstGeom>
          <a:ln w="0">
            <a:noFill/>
          </a:ln>
        </p:spPr>
      </p:pic>
      <p:sp>
        <p:nvSpPr>
          <p:cNvPr id="158" name="Rounded Rectangular Callout 4"/>
          <p:cNvSpPr/>
          <p:nvPr/>
        </p:nvSpPr>
        <p:spPr>
          <a:xfrm>
            <a:off x="5029200" y="1752480"/>
            <a:ext cx="4114800" cy="2362320"/>
          </a:xfrm>
          <a:prstGeom prst="wedgeRoundRectCallout">
            <a:avLst>
              <a:gd name="adj1" fmla="val -89125"/>
              <a:gd name="adj2" fmla="val 21902"/>
              <a:gd name="adj3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5659560" y="2209680"/>
            <a:ext cx="24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Rectangle 6" descr=""/>
          <p:cNvPicPr/>
          <p:nvPr/>
        </p:nvPicPr>
        <p:blipFill>
          <a:blip r:embed="rId2"/>
          <a:stretch/>
        </p:blipFill>
        <p:spPr>
          <a:xfrm>
            <a:off x="2328840" y="353880"/>
            <a:ext cx="5400720" cy="1109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99072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key said, “Ou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601640" y="1371600"/>
            <a:ext cx="6350040" cy="406404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200320" y="281160"/>
            <a:ext cx="4975200" cy="10969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1905120" y="54356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ran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4394160" y="1447920"/>
            <a:ext cx="4762440" cy="4140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357120" y="2062080"/>
            <a:ext cx="4037040" cy="3684600"/>
            <a:chOff x="357120" y="2062080"/>
            <a:chExt cx="4037040" cy="3684600"/>
          </a:xfrm>
        </p:grpSpPr>
        <p:pic>
          <p:nvPicPr>
            <p:cNvPr id="169" name="Picture 3" descr=""/>
            <p:cNvPicPr/>
            <p:nvPr/>
          </p:nvPicPr>
          <p:blipFill>
            <a:blip r:embed="rId2"/>
            <a:stretch/>
          </p:blipFill>
          <p:spPr>
            <a:xfrm>
              <a:off x="357120" y="2062080"/>
              <a:ext cx="2462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" descr=""/>
            <p:cNvPicPr/>
            <p:nvPr/>
          </p:nvPicPr>
          <p:blipFill>
            <a:blip r:embed="rId3"/>
            <a:stretch/>
          </p:blipFill>
          <p:spPr>
            <a:xfrm>
              <a:off x="2819520" y="2209680"/>
              <a:ext cx="157464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" descr=""/>
            <p:cNvPicPr/>
            <p:nvPr/>
          </p:nvPicPr>
          <p:blipFill>
            <a:blip r:embed="rId4"/>
            <a:stretch/>
          </p:blipFill>
          <p:spPr>
            <a:xfrm>
              <a:off x="1295280" y="3666960"/>
              <a:ext cx="2432160" cy="207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Rectangle 8" descr=""/>
          <p:cNvPicPr/>
          <p:nvPr/>
        </p:nvPicPr>
        <p:blipFill>
          <a:blip r:embed="rId5"/>
          <a:stretch/>
        </p:blipFill>
        <p:spPr>
          <a:xfrm>
            <a:off x="60480" y="347760"/>
            <a:ext cx="8785080" cy="11095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4648320" y="5587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all now had many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Recorded Sound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762440" cy="41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914400" y="355680"/>
            <a:ext cx="4915080" cy="650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155840" y="3556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77120" y="355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 small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762800" cy="414000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>
            <a:off x="1599840" y="1295280"/>
            <a:ext cx="122004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5" name="TextBox 6"/>
          <p:cNvSpPr/>
          <p:nvPr/>
        </p:nvSpPr>
        <p:spPr>
          <a:xfrm>
            <a:off x="533520" y="685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577320" y="37152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叫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ebal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80880" y="4191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name was fir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809880" y="1434960"/>
            <a:ext cx="4762800" cy="41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3218040" cy="2895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3792960" y="3715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是一个美国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99072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n American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4762440" cy="41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66" name="&quot;No&quot; Symbol 5"/>
          <p:cNvSpPr/>
          <p:nvPr/>
        </p:nvSpPr>
        <p:spPr>
          <a:xfrm>
            <a:off x="380880" y="1676520"/>
            <a:ext cx="2971800" cy="34542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569480" y="5238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295280" y="586728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7469280" y="2631960"/>
            <a:ext cx="12952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082520" y="2631960"/>
            <a:ext cx="1575000" cy="1575000"/>
          </a:xfrm>
          <a:prstGeom prst="rect">
            <a:avLst/>
          </a:prstGeom>
          <a:ln w="0">
            <a:noFill/>
          </a:ln>
        </p:spPr>
      </p:pic>
      <p:sp>
        <p:nvSpPr>
          <p:cNvPr id="72" name="&quot;No&quot; Symbol 5"/>
          <p:cNvSpPr/>
          <p:nvPr/>
        </p:nvSpPr>
        <p:spPr>
          <a:xfrm>
            <a:off x="533520" y="2209680"/>
            <a:ext cx="2743200" cy="221004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27672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"/>
          <p:cNvCxnSpPr/>
          <p:nvPr/>
        </p:nvCxnSpPr>
        <p:spPr>
          <a:xfrm flipV="1">
            <a:off x="3886200" y="2437920"/>
            <a:ext cx="838800" cy="194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75" name="Picture 9" descr=""/>
          <p:cNvPicPr/>
          <p:nvPr/>
        </p:nvPicPr>
        <p:blipFill>
          <a:blip r:embed="rId3"/>
          <a:stretch/>
        </p:blipFill>
        <p:spPr>
          <a:xfrm>
            <a:off x="4876920" y="7779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259160" y="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他没有朋友应为他是小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3429000" y="4419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d no friends because he was a small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1574640" cy="157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57120" y="2062080"/>
            <a:ext cx="2462400" cy="160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1295280" y="3666960"/>
            <a:ext cx="2432160" cy="207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5562720" y="1905120"/>
            <a:ext cx="2342880" cy="2361960"/>
          </a:xfrm>
          <a:prstGeom prst="rect">
            <a:avLst/>
          </a:prstGeom>
          <a:ln w="0">
            <a:noFill/>
          </a:ln>
        </p:spPr>
      </p:pic>
      <p:cxnSp>
        <p:nvCxnSpPr>
          <p:cNvPr id="83" name="Straight Arrow Connector 8"/>
          <p:cNvCxnSpPr/>
          <p:nvPr/>
        </p:nvCxnSpPr>
        <p:spPr>
          <a:xfrm flipV="1">
            <a:off x="4394160" y="3783960"/>
            <a:ext cx="1169280" cy="254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4" name="Rectangle 6"/>
          <p:cNvSpPr/>
          <p:nvPr/>
        </p:nvSpPr>
        <p:spPr>
          <a:xfrm>
            <a:off x="3469320" y="3808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持它大狗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562720" y="48769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dogs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orded Soun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3810240" cy="4711680"/>
          </a:xfrm>
          <a:prstGeom prst="rect">
            <a:avLst/>
          </a:prstGeom>
          <a:ln w="0">
            <a:noFill/>
          </a:ln>
        </p:spPr>
      </p:pic>
      <p:sp>
        <p:nvSpPr>
          <p:cNvPr id="88" name="Oval Callout 5"/>
          <p:cNvSpPr/>
          <p:nvPr/>
        </p:nvSpPr>
        <p:spPr>
          <a:xfrm>
            <a:off x="4724280" y="4533840"/>
            <a:ext cx="2514600" cy="1752840"/>
          </a:xfrm>
          <a:prstGeom prst="wedgeEllipseCallout">
            <a:avLst>
              <a:gd name="adj1" fmla="val -74125"/>
              <a:gd name="adj2" fmla="val -5790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952880" y="5105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HAHAHAHAH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980760" y="45252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很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108840" y="220968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aug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5:13:28Z</dcterms:created>
  <dc:creator>Jack Englert</dc:creator>
  <dc:description/>
  <dc:language>en-US</dc:language>
  <cp:lastModifiedBy>itsuser</cp:lastModifiedBy>
  <dcterms:modified xsi:type="dcterms:W3CDTF">2009-03-10T20:07:20Z</dcterms:modified>
  <cp:revision>6</cp:revision>
  <dc:subject/>
  <dc:title>Fireball</dc:title>
</cp:coreProperties>
</file>